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87B-34C6-44F2-9E98-68FFA984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C6A-AF65-47CB-84B2-B528AD3F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228-7A8E-43F3-99E7-71745C46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C72-FCA8-4231-8F7A-2285F89F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70C-6E42-4B7E-A765-E5CAEB03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9A1-6021-414C-B8C4-8D924054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62B-67A4-4D5F-B966-B6B775D8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A9A-E92F-4B58-8903-ED5F2176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74B-9FE4-4479-BBF1-324E80A9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CF9-8AE6-4322-A4C2-01E4159F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DC4-110A-43CE-A176-10D8AA4D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A5F-1DA8-4D0C-ACFE-594E67D2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FB7A-2914-4546-9B51-1963A28FC01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5880" y="120600"/>
            <a:ext cx="6954840" cy="6382440"/>
            <a:chOff x="785880" y="120600"/>
            <a:chExt cx="6954840" cy="6382440"/>
          </a:xfrm>
        </p:grpSpPr>
        <p:sp>
          <p:nvSpPr>
            <p:cNvPr id="42" name="TextBox 48"/>
            <p:cNvSpPr/>
            <p:nvPr/>
          </p:nvSpPr>
          <p:spPr>
            <a:xfrm>
              <a:off x="5786280" y="142920"/>
              <a:ext cx="195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LAYER(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축구선수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TextBox 49"/>
            <p:cNvSpPr/>
            <p:nvPr/>
          </p:nvSpPr>
          <p:spPr>
            <a:xfrm>
              <a:off x="928800" y="120600"/>
              <a:ext cx="14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TEAM(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축구팀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TextBox 50"/>
            <p:cNvSpPr/>
            <p:nvPr/>
          </p:nvSpPr>
          <p:spPr>
            <a:xfrm>
              <a:off x="785880" y="4119480"/>
              <a:ext cx="185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STADIUM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(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경기장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TextBox 51"/>
            <p:cNvSpPr/>
            <p:nvPr/>
          </p:nvSpPr>
          <p:spPr>
            <a:xfrm>
              <a:off x="5786280" y="4191120"/>
              <a:ext cx="195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SCHEDULE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(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일정 및 스코어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28800" y="471600"/>
              <a:ext cx="1785960" cy="3142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TEAM_I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8800" y="785880"/>
              <a:ext cx="1785960" cy="2468520"/>
            </a:xfrm>
            <a:prstGeom prst="rect">
              <a:avLst/>
            </a:prstGeom>
            <a:solidFill>
              <a:srgbClr val="de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REGION_NA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TEAM_NA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E_TEAM_NA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ORIG_YYYY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STADIUM_ID (FK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ZIP_CODE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ZIP_CODE2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D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TEL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FAX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HOMEPAG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OWN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28800" y="785880"/>
              <a:ext cx="178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28800" y="471600"/>
              <a:ext cx="0" cy="27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14760" y="471600"/>
              <a:ext cx="0" cy="27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28800" y="4716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28800" y="3254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28800" y="4614840"/>
              <a:ext cx="1785960" cy="3142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STADIUM_I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8800" y="4929120"/>
              <a:ext cx="1785960" cy="1189080"/>
            </a:xfrm>
            <a:prstGeom prst="rect">
              <a:avLst/>
            </a:prstGeom>
            <a:solidFill>
              <a:srgbClr val="de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STADIUM_NA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HOMETEAM_I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SEAT_COUNT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D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TEL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28800" y="4929120"/>
              <a:ext cx="178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28800" y="4614840"/>
              <a:ext cx="0" cy="150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14760" y="4614840"/>
              <a:ext cx="0" cy="150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28800" y="461484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28800" y="61182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86280" y="4714920"/>
              <a:ext cx="1785960" cy="45720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STADIUM_ID (FK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SCHE_DAT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86280" y="5172120"/>
              <a:ext cx="1785960" cy="1006560"/>
            </a:xfrm>
            <a:prstGeom prst="rect">
              <a:avLst/>
            </a:prstGeom>
            <a:solidFill>
              <a:srgbClr val="de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GUBU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HOMETEAM_I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WAYTEAM_I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HOME_SCOR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WAY_SCOR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86280" y="5172120"/>
              <a:ext cx="178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86280" y="4714920"/>
              <a:ext cx="0" cy="146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72240" y="4714920"/>
              <a:ext cx="0" cy="146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86280" y="471492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86280" y="617868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86280" y="471600"/>
              <a:ext cx="1785960" cy="3142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PLAYER_I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86280" y="785880"/>
              <a:ext cx="1785960" cy="2286000"/>
            </a:xfrm>
            <a:prstGeom prst="rect">
              <a:avLst/>
            </a:prstGeom>
            <a:solidFill>
              <a:srgbClr val="de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LAYER_NA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TEAM_ID (FK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E_PLAYER_NA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NICKNA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JOIN_YYYY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BACK_NO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NATIO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BIRTH_DAT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SOLA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HEIGHT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WEIGHT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86280" y="785880"/>
              <a:ext cx="178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86280" y="471600"/>
              <a:ext cx="0" cy="260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72240" y="471600"/>
              <a:ext cx="0" cy="260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86280" y="4716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86280" y="307188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74" name="꺾인 연결선 59"/>
            <p:cNvCxnSpPr/>
            <p:nvPr/>
          </p:nvCxnSpPr>
          <p:spPr>
            <a:xfrm>
              <a:off x="2714760" y="5428800"/>
              <a:ext cx="3072240" cy="2520"/>
            </a:xfrm>
            <a:prstGeom prst="bentConnector3">
              <a:avLst>
                <a:gd name="adj1" fmla="val 49994"/>
              </a:avLst>
            </a:prstGeom>
            <a:ln w="19080">
              <a:solidFill>
                <a:srgbClr val="4a7ebb"/>
              </a:solidFill>
              <a:miter/>
            </a:ln>
          </p:spPr>
        </p:cxnSp>
        <p:cxnSp>
          <p:nvCxnSpPr>
            <p:cNvPr id="75" name="꺾인 연결선 62"/>
            <p:cNvCxnSpPr/>
            <p:nvPr/>
          </p:nvCxnSpPr>
          <p:spPr>
            <a:xfrm>
              <a:off x="2714760" y="1928880"/>
              <a:ext cx="3072240" cy="2160"/>
            </a:xfrm>
            <a:prstGeom prst="bentConnector3">
              <a:avLst>
                <a:gd name="adj1" fmla="val 49994"/>
              </a:avLst>
            </a:prstGeom>
            <a:ln w="19080">
              <a:solidFill>
                <a:srgbClr val="4a7ebb"/>
              </a:solidFill>
              <a:prstDash val="dash"/>
              <a:miter/>
            </a:ln>
          </p:spPr>
        </p:cxnSp>
        <p:cxnSp>
          <p:nvCxnSpPr>
            <p:cNvPr id="76" name="꺾인 연결선 65"/>
            <p:cNvCxnSpPr/>
            <p:nvPr/>
          </p:nvCxnSpPr>
          <p:spPr>
            <a:xfrm rot="5400000">
              <a:off x="1059840" y="3928680"/>
              <a:ext cx="1430640" cy="2160"/>
            </a:xfrm>
            <a:prstGeom prst="bentConnector3">
              <a:avLst>
                <a:gd name="adj1" fmla="val 49987"/>
              </a:avLst>
            </a:prstGeom>
            <a:ln w="19080">
              <a:solidFill>
                <a:srgbClr val="4a7ebb"/>
              </a:solidFill>
              <a:prstDash val="dash"/>
              <a:miter/>
            </a:ln>
          </p:spPr>
        </p:cxnSp>
        <p:sp>
          <p:nvSpPr>
            <p:cNvPr id="77" name="TextBox 68"/>
            <p:cNvSpPr/>
            <p:nvPr/>
          </p:nvSpPr>
          <p:spPr>
            <a:xfrm>
              <a:off x="5429160" y="161460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f81bd"/>
                  </a:solidFill>
                  <a:latin typeface="맑은 고딕"/>
                  <a:ea typeface="맑은 고딕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TextBox 69"/>
            <p:cNvSpPr/>
            <p:nvPr/>
          </p:nvSpPr>
          <p:spPr>
            <a:xfrm>
              <a:off x="5429160" y="512136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f81bd"/>
                  </a:solidFill>
                  <a:latin typeface="맑은 고딕"/>
                  <a:ea typeface="맑은 고딕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직선 연결선 74"/>
            <p:cNvSpPr/>
            <p:nvPr/>
          </p:nvSpPr>
          <p:spPr>
            <a:xfrm>
              <a:off x="1643040" y="4500720"/>
              <a:ext cx="285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직선 연결선 75"/>
            <p:cNvSpPr/>
            <p:nvPr/>
          </p:nvSpPr>
          <p:spPr>
            <a:xfrm>
              <a:off x="1643040" y="3332160"/>
              <a:ext cx="285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타원 76"/>
            <p:cNvSpPr/>
            <p:nvPr/>
          </p:nvSpPr>
          <p:spPr>
            <a:xfrm>
              <a:off x="5438880" y="1838160"/>
              <a:ext cx="179280" cy="177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타원 78"/>
            <p:cNvSpPr/>
            <p:nvPr/>
          </p:nvSpPr>
          <p:spPr>
            <a:xfrm>
              <a:off x="5448240" y="5348160"/>
              <a:ext cx="179280" cy="177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직선 연결선 79"/>
            <p:cNvSpPr/>
            <p:nvPr/>
          </p:nvSpPr>
          <p:spPr>
            <a:xfrm>
              <a:off x="2786040" y="52862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직선 연결선 80"/>
            <p:cNvSpPr/>
            <p:nvPr/>
          </p:nvSpPr>
          <p:spPr>
            <a:xfrm>
              <a:off x="2786040" y="178596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TextBox 81"/>
            <p:cNvSpPr/>
            <p:nvPr/>
          </p:nvSpPr>
          <p:spPr>
            <a:xfrm>
              <a:off x="3214800" y="3286080"/>
              <a:ext cx="1928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맑은 고딕"/>
                  <a:ea typeface="맑은 고딕"/>
                </a:rPr>
                <a:t>IE(</a:t>
              </a:r>
              <a:r>
                <a:rPr b="1" lang="ko-KR" sz="1400" spc="-1" strike="noStrike" u="sng">
                  <a:solidFill>
                    <a:srgbClr val="000000"/>
                  </a:solidFill>
                  <a:uFillTx/>
                  <a:latin typeface="맑은 고딕"/>
                  <a:ea typeface="맑은 고딕"/>
                </a:rPr>
                <a:t>정보공학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맑은 고딕"/>
                  <a:ea typeface="맑은 고딕"/>
                </a:rPr>
                <a:t>)</a:t>
              </a:r>
              <a:r>
                <a:rPr b="1" lang="ko-KR" sz="1400" spc="-1" strike="noStrike" u="sng">
                  <a:solidFill>
                    <a:srgbClr val="000000"/>
                  </a:solidFill>
                  <a:uFillTx/>
                  <a:latin typeface="맑은 고딕"/>
                  <a:ea typeface="맑은 고딕"/>
                </a:rPr>
                <a:t>표기법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실선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식별관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점선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비식별관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타원 78"/>
            <p:cNvSpPr/>
            <p:nvPr/>
          </p:nvSpPr>
          <p:spPr>
            <a:xfrm>
              <a:off x="1681200" y="3349800"/>
              <a:ext cx="179280" cy="177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Text Box 39"/>
            <p:cNvSpPr/>
            <p:nvPr/>
          </p:nvSpPr>
          <p:spPr>
            <a:xfrm>
              <a:off x="900000" y="326700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(15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건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Text Box 40"/>
            <p:cNvSpPr/>
            <p:nvPr/>
          </p:nvSpPr>
          <p:spPr>
            <a:xfrm>
              <a:off x="900000" y="612468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(20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건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Text Box 41"/>
            <p:cNvSpPr/>
            <p:nvPr/>
          </p:nvSpPr>
          <p:spPr>
            <a:xfrm>
              <a:off x="5857920" y="307188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(480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건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Text Box 42"/>
            <p:cNvSpPr/>
            <p:nvPr/>
          </p:nvSpPr>
          <p:spPr>
            <a:xfrm>
              <a:off x="5857920" y="61959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(180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건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28800" y="333360"/>
            <a:ext cx="1785960" cy="314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EAM(</a:t>
            </a:r>
            <a:r>
              <a:rPr b="1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축구팀</a:t>
            </a:r>
            <a:r>
              <a:rPr b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928800" y="647640"/>
            <a:ext cx="1785960" cy="2643120"/>
          </a:xfrm>
          <a:prstGeom prst="rect">
            <a:avLst/>
          </a:prstGeom>
          <a:solidFill>
            <a:srgbClr val="dee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# TEAM_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GION_NA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AM_NA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_TEAM_NA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RIG_YYY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DIUM_ID (FK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ZIP_CODE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ZIP_CODE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D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A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OMEP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WN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928800" y="647640"/>
            <a:ext cx="1785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928800" y="333360"/>
            <a:ext cx="0" cy="2782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714760" y="333360"/>
            <a:ext cx="0" cy="2782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333360"/>
            <a:ext cx="178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928800" y="4476600"/>
            <a:ext cx="1785960" cy="3146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TADIUM(</a:t>
            </a:r>
            <a:r>
              <a:rPr b="1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경기장</a:t>
            </a:r>
            <a:r>
              <a:rPr b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928800" y="4791240"/>
            <a:ext cx="1785960" cy="1379520"/>
          </a:xfrm>
          <a:prstGeom prst="rect">
            <a:avLst/>
          </a:prstGeom>
          <a:solidFill>
            <a:srgbClr val="dee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# STADIUM_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DIUM_NA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OMETEAM_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EAT_COU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D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928800" y="4791240"/>
            <a:ext cx="1785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928800" y="4476600"/>
            <a:ext cx="0" cy="150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714760" y="4476600"/>
            <a:ext cx="0" cy="150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928800" y="4476600"/>
            <a:ext cx="178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786280" y="4433760"/>
            <a:ext cx="1785960" cy="4572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일정 및 스코어</a:t>
            </a:r>
            <a:r>
              <a:rPr b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786280" y="4890960"/>
            <a:ext cx="1785960" cy="1352520"/>
          </a:xfrm>
          <a:prstGeom prst="rect">
            <a:avLst/>
          </a:prstGeom>
          <a:solidFill>
            <a:srgbClr val="dee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# STADIUM_ID (FK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# SCHE_D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UBU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OMETEAM_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WAYTEAM_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OME_S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WAY_S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786280" y="4890960"/>
            <a:ext cx="1785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786280" y="4433760"/>
            <a:ext cx="0" cy="1463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7572240" y="4433760"/>
            <a:ext cx="0" cy="1463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5786280" y="4433760"/>
            <a:ext cx="178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5786280" y="333360"/>
            <a:ext cx="1785960" cy="314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LAYER(</a:t>
            </a:r>
            <a:r>
              <a:rPr b="1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축구선수</a:t>
            </a:r>
            <a:r>
              <a:rPr b="1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5786280" y="647640"/>
            <a:ext cx="1785960" cy="2498760"/>
          </a:xfrm>
          <a:prstGeom prst="rect">
            <a:avLst/>
          </a:prstGeom>
          <a:solidFill>
            <a:srgbClr val="dee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# PLAYER_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LAYER_NA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EAM_ID (FK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_PLAYER_NA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CKNA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IN_YYY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ACK_NO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IRTH_D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OLA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5786280" y="647640"/>
            <a:ext cx="1785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786280" y="333360"/>
            <a:ext cx="0" cy="2600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572240" y="333360"/>
            <a:ext cx="0" cy="2600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5786280" y="333360"/>
            <a:ext cx="1785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직선 연결선 79"/>
          <p:cNvSpPr/>
          <p:nvPr/>
        </p:nvSpPr>
        <p:spPr>
          <a:xfrm>
            <a:off x="5611680" y="514836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81"/>
          <p:cNvSpPr/>
          <p:nvPr/>
        </p:nvSpPr>
        <p:spPr>
          <a:xfrm>
            <a:off x="3214800" y="3147840"/>
            <a:ext cx="207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Barker </a:t>
            </a:r>
            <a:r>
              <a:rPr b="1" lang="ko-KR" sz="14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표기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직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식별관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971640" y="3341520"/>
            <a:ext cx="10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5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971640" y="6199200"/>
            <a:ext cx="10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0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 Box 41"/>
          <p:cNvSpPr/>
          <p:nvPr/>
        </p:nvSpPr>
        <p:spPr>
          <a:xfrm>
            <a:off x="5857920" y="31464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80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5857920" y="627048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80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Box 68"/>
          <p:cNvSpPr/>
          <p:nvPr/>
        </p:nvSpPr>
        <p:spPr>
          <a:xfrm>
            <a:off x="5446800" y="1419120"/>
            <a:ext cx="4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2" name="꺾인 연결선 14"/>
          <p:cNvCxnSpPr/>
          <p:nvPr/>
        </p:nvCxnSpPr>
        <p:spPr>
          <a:xfrm>
            <a:off x="2690280" y="1738080"/>
            <a:ext cx="1513800" cy="1080"/>
          </a:xfrm>
          <a:prstGeom prst="bentConnector2">
            <a:avLst/>
          </a:prstGeom>
          <a:ln w="19080">
            <a:solidFill>
              <a:srgbClr val="4a7ebb"/>
            </a:solidFill>
            <a:prstDash val="dash"/>
            <a:miter/>
          </a:ln>
        </p:spPr>
      </p:cxnSp>
      <p:cxnSp>
        <p:nvCxnSpPr>
          <p:cNvPr id="123" name="꺾인 연결선 14"/>
          <p:cNvCxnSpPr/>
          <p:nvPr/>
        </p:nvCxnSpPr>
        <p:spPr>
          <a:xfrm>
            <a:off x="4130280" y="1736280"/>
            <a:ext cx="1656360" cy="1080"/>
          </a:xfrm>
          <a:prstGeom prst="bentConnector2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124" name="TextBox 68"/>
          <p:cNvSpPr/>
          <p:nvPr/>
        </p:nvSpPr>
        <p:spPr>
          <a:xfrm>
            <a:off x="5442120" y="4962600"/>
            <a:ext cx="4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맑은 고딕"/>
                <a:ea typeface="맑은 고딕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5" name="꺾인 연결선 14"/>
          <p:cNvCxnSpPr/>
          <p:nvPr/>
        </p:nvCxnSpPr>
        <p:spPr>
          <a:xfrm>
            <a:off x="2685600" y="5281200"/>
            <a:ext cx="1513800" cy="1080"/>
          </a:xfrm>
          <a:prstGeom prst="bentConnector2">
            <a:avLst/>
          </a:prstGeom>
          <a:ln w="19080">
            <a:solidFill>
              <a:srgbClr val="4a7ebb"/>
            </a:solidFill>
            <a:prstDash val="dash"/>
            <a:miter/>
          </a:ln>
        </p:spPr>
      </p:cxnSp>
      <p:cxnSp>
        <p:nvCxnSpPr>
          <p:cNvPr id="126" name="꺾인 연결선 14"/>
          <p:cNvCxnSpPr/>
          <p:nvPr/>
        </p:nvCxnSpPr>
        <p:spPr>
          <a:xfrm>
            <a:off x="4125600" y="5279760"/>
            <a:ext cx="1656360" cy="1080"/>
          </a:xfrm>
          <a:prstGeom prst="bentConnector2">
            <a:avLst/>
          </a:prstGeom>
          <a:ln w="19080">
            <a:solidFill>
              <a:srgbClr val="4a7ebb"/>
            </a:solidFill>
            <a:miter/>
          </a:ln>
        </p:spPr>
      </p:cxnSp>
      <p:cxnSp>
        <p:nvCxnSpPr>
          <p:cNvPr id="127" name="꺾인 연결선 14"/>
          <p:cNvCxnSpPr/>
          <p:nvPr/>
        </p:nvCxnSpPr>
        <p:spPr>
          <a:xfrm flipV="1">
            <a:off x="1775880" y="3803400"/>
            <a:ext cx="1080" cy="668880"/>
          </a:xfrm>
          <a:prstGeom prst="bentConnector2">
            <a:avLst/>
          </a:prstGeom>
          <a:ln w="19080">
            <a:solidFill>
              <a:srgbClr val="4a7ebb"/>
            </a:solidFill>
            <a:prstDash val="dash"/>
            <a:miter/>
          </a:ln>
        </p:spPr>
      </p:cxnSp>
      <p:cxnSp>
        <p:nvCxnSpPr>
          <p:cNvPr id="128" name="꺾인 연결선 14"/>
          <p:cNvCxnSpPr/>
          <p:nvPr/>
        </p:nvCxnSpPr>
        <p:spPr>
          <a:xfrm rot="5400000">
            <a:off x="1452600" y="3607200"/>
            <a:ext cx="648360" cy="2520"/>
          </a:xfrm>
          <a:prstGeom prst="bentConnector3">
            <a:avLst>
              <a:gd name="adj1" fmla="val 50000"/>
            </a:avLst>
          </a:prstGeom>
          <a:ln w="1908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965160" y="1744560"/>
            <a:ext cx="6821640" cy="2758320"/>
            <a:chOff x="965160" y="1744560"/>
            <a:chExt cx="6821640" cy="2758320"/>
          </a:xfrm>
        </p:grpSpPr>
        <p:sp>
          <p:nvSpPr>
            <p:cNvPr id="130" name="TextBox 49"/>
            <p:cNvSpPr/>
            <p:nvPr/>
          </p:nvSpPr>
          <p:spPr>
            <a:xfrm>
              <a:off x="965160" y="1744560"/>
              <a:ext cx="14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EPT(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부서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65160" y="2124000"/>
              <a:ext cx="1785960" cy="42876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DEPTNO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65160" y="2552760"/>
              <a:ext cx="1785960" cy="517320"/>
            </a:xfrm>
            <a:prstGeom prst="rect">
              <a:avLst/>
            </a:prstGeom>
            <a:solidFill>
              <a:srgbClr val="de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NAM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LOC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65160" y="2552760"/>
              <a:ext cx="178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65160" y="2124000"/>
              <a:ext cx="0" cy="9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51120" y="2124000"/>
              <a:ext cx="0" cy="9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65160" y="21240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5160" y="307008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TextBox 9"/>
            <p:cNvSpPr/>
            <p:nvPr/>
          </p:nvSpPr>
          <p:spPr>
            <a:xfrm>
              <a:off x="5965920" y="1744560"/>
              <a:ext cx="182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EMP(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원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65920" y="2124000"/>
              <a:ext cx="1785960" cy="42876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EMPNO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65920" y="2552760"/>
              <a:ext cx="1785960" cy="1584360"/>
            </a:xfrm>
            <a:prstGeom prst="rect">
              <a:avLst/>
            </a:prstGeom>
            <a:solidFill>
              <a:srgbClr val="dee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ENAM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JOB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MGR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HIREDAT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SAL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OMM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EPTNO (FK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65920" y="2552760"/>
              <a:ext cx="1785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65920" y="2124000"/>
              <a:ext cx="0" cy="201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51880" y="2124000"/>
              <a:ext cx="0" cy="201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65920" y="21240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65920" y="413712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Text Box 39"/>
            <p:cNvSpPr/>
            <p:nvPr/>
          </p:nvSpPr>
          <p:spPr>
            <a:xfrm>
              <a:off x="1041480" y="314316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(4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건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Text Box 42"/>
            <p:cNvSpPr/>
            <p:nvPr/>
          </p:nvSpPr>
          <p:spPr>
            <a:xfrm>
              <a:off x="5986440" y="419580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(14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건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8" name="꺾인 연결선 14"/>
            <p:cNvCxnSpPr/>
            <p:nvPr/>
          </p:nvCxnSpPr>
          <p:spPr>
            <a:xfrm>
              <a:off x="2822040" y="2766600"/>
              <a:ext cx="3072600" cy="25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4a7ebb"/>
              </a:solidFill>
              <a:prstDash val="dash"/>
              <a:miter/>
            </a:ln>
          </p:spPr>
        </p:cxnSp>
        <p:sp>
          <p:nvSpPr>
            <p:cNvPr id="149" name="TextBox 68"/>
            <p:cNvSpPr/>
            <p:nvPr/>
          </p:nvSpPr>
          <p:spPr>
            <a:xfrm>
              <a:off x="5537160" y="245268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f81bd"/>
                  </a:solidFill>
                  <a:latin typeface="맑은 고딕"/>
                  <a:ea typeface="맑은 고딕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타원 16"/>
            <p:cNvSpPr/>
            <p:nvPr/>
          </p:nvSpPr>
          <p:spPr>
            <a:xfrm>
              <a:off x="5546880" y="2676600"/>
              <a:ext cx="179280" cy="177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직선 연결선 17"/>
            <p:cNvSpPr/>
            <p:nvPr/>
          </p:nvSpPr>
          <p:spPr>
            <a:xfrm>
              <a:off x="2894040" y="26240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TextBox 81"/>
            <p:cNvSpPr/>
            <p:nvPr/>
          </p:nvSpPr>
          <p:spPr>
            <a:xfrm>
              <a:off x="3322800" y="1762200"/>
              <a:ext cx="192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맑은 고딕"/>
                  <a:ea typeface="맑은 고딕"/>
                </a:rPr>
                <a:t>IE(</a:t>
              </a:r>
              <a:r>
                <a:rPr b="1" lang="ko-KR" sz="1400" spc="-1" strike="noStrike" u="sng">
                  <a:solidFill>
                    <a:srgbClr val="000000"/>
                  </a:solidFill>
                  <a:uFillTx/>
                  <a:latin typeface="맑은 고딕"/>
                  <a:ea typeface="맑은 고딕"/>
                </a:rPr>
                <a:t>정보공학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맑은 고딕"/>
                  <a:ea typeface="맑은 고딕"/>
                </a:rPr>
                <a:t>)</a:t>
              </a:r>
              <a:r>
                <a:rPr b="1" lang="ko-KR" sz="1400" spc="-1" strike="noStrike" u="sng">
                  <a:solidFill>
                    <a:srgbClr val="000000"/>
                  </a:solidFill>
                  <a:uFillTx/>
                  <a:latin typeface="맑은 고딕"/>
                  <a:ea typeface="맑은 고딕"/>
                </a:rPr>
                <a:t>표기법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점선</a:t>
              </a:r>
              <a:r>
                <a:rPr b="1" lang="en-US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비식별관계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965160" y="2048040"/>
            <a:ext cx="6786720" cy="2607120"/>
            <a:chOff x="965160" y="2048040"/>
            <a:chExt cx="6786720" cy="2607120"/>
          </a:xfrm>
        </p:grpSpPr>
        <p:grpSp>
          <p:nvGrpSpPr>
            <p:cNvPr id="154" name=""/>
            <p:cNvGrpSpPr/>
            <p:nvPr/>
          </p:nvGrpSpPr>
          <p:grpSpPr>
            <a:xfrm>
              <a:off x="965160" y="2124000"/>
              <a:ext cx="6786720" cy="2531160"/>
              <a:chOff x="965160" y="2124000"/>
              <a:chExt cx="6786720" cy="2531160"/>
            </a:xfrm>
          </p:grpSpPr>
          <p:sp>
            <p:nvSpPr>
              <p:cNvPr id="155" name=""/>
              <p:cNvSpPr/>
              <p:nvPr/>
            </p:nvSpPr>
            <p:spPr>
              <a:xfrm>
                <a:off x="965160" y="2124000"/>
                <a:ext cx="1785960" cy="42876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맑은 고딕"/>
                    <a:ea typeface="맑은 고딕"/>
                  </a:rPr>
                  <a:t>DEPT(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맑은 고딕"/>
                    <a:ea typeface="맑은 고딕"/>
                  </a:rPr>
                  <a:t>부서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65160" y="2552760"/>
                <a:ext cx="1785960" cy="731880"/>
              </a:xfrm>
              <a:prstGeom prst="rect">
                <a:avLst/>
              </a:prstGeom>
              <a:solidFill>
                <a:srgbClr val="de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# DEPTNO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DNAME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LOC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65160" y="2552760"/>
                <a:ext cx="178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65160" y="2124000"/>
                <a:ext cx="0" cy="946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751120" y="2124000"/>
                <a:ext cx="0" cy="946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65920" y="2124000"/>
                <a:ext cx="1785960" cy="42876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맑은 고딕"/>
                    <a:ea typeface="맑은 고딕"/>
                  </a:rPr>
                  <a:t>EMP(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맑은 고딕"/>
                    <a:ea typeface="맑은 고딕"/>
                  </a:rPr>
                  <a:t>사원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65920" y="2552760"/>
                <a:ext cx="1785960" cy="1812960"/>
              </a:xfrm>
              <a:prstGeom prst="rect">
                <a:avLst/>
              </a:prstGeom>
              <a:solidFill>
                <a:srgbClr val="de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# EMPNO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ENAME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JOB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MGR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HIREDATE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SAL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COMM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DEPTNO (FK)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65920" y="2552760"/>
                <a:ext cx="178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65920" y="2124000"/>
                <a:ext cx="0" cy="201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51880" y="2124000"/>
                <a:ext cx="0" cy="201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Text Box 39"/>
              <p:cNvSpPr/>
              <p:nvPr/>
            </p:nvSpPr>
            <p:spPr>
              <a:xfrm>
                <a:off x="1041480" y="3284640"/>
                <a:ext cx="16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(4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건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Text Box 42"/>
              <p:cNvSpPr/>
              <p:nvPr/>
            </p:nvSpPr>
            <p:spPr>
              <a:xfrm>
                <a:off x="6012000" y="4348080"/>
                <a:ext cx="16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(14</a:t>
                </a:r>
                <a:r>
                  <a:rPr b="1" lang="ko-KR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건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7" name="TextBox 68"/>
              <p:cNvSpPr/>
              <p:nvPr/>
            </p:nvSpPr>
            <p:spPr>
              <a:xfrm>
                <a:off x="5537160" y="2452680"/>
                <a:ext cx="49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4f81bd"/>
                    </a:solidFill>
                    <a:latin typeface="맑은 고딕"/>
                    <a:ea typeface="맑은 고딕"/>
                  </a:rPr>
                  <a:t>&lt;</a:t>
                </a:r>
                <a:endParaRPr b="0" lang="en-US" sz="3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cxnSp>
            <p:nvCxnSpPr>
              <p:cNvPr id="168" name="꺾인 연결선 14"/>
              <p:cNvCxnSpPr/>
              <p:nvPr/>
            </p:nvCxnSpPr>
            <p:spPr>
              <a:xfrm>
                <a:off x="2781360" y="2771280"/>
                <a:ext cx="1513440" cy="1080"/>
              </a:xfrm>
              <a:prstGeom prst="bentConnector2">
                <a:avLst/>
              </a:prstGeom>
              <a:ln w="19080">
                <a:solidFill>
                  <a:srgbClr val="4a7ebb"/>
                </a:solidFill>
                <a:prstDash val="dash"/>
                <a:miter/>
              </a:ln>
            </p:spPr>
          </p:cxnSp>
          <p:cxnSp>
            <p:nvCxnSpPr>
              <p:cNvPr id="169" name="꺾인 연결선 14"/>
              <p:cNvCxnSpPr/>
              <p:nvPr/>
            </p:nvCxnSpPr>
            <p:spPr>
              <a:xfrm>
                <a:off x="4221000" y="2769840"/>
                <a:ext cx="1656720" cy="1080"/>
              </a:xfrm>
              <a:prstGeom prst="bentConnector2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</p:grpSp>
        <p:sp>
          <p:nvSpPr>
            <p:cNvPr id="170" name="TextBox 81"/>
            <p:cNvSpPr/>
            <p:nvPr/>
          </p:nvSpPr>
          <p:spPr>
            <a:xfrm>
              <a:off x="3214800" y="2048040"/>
              <a:ext cx="20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맑은 고딕"/>
                  <a:ea typeface="맑은 고딕"/>
                </a:rPr>
                <a:t>Barker </a:t>
              </a:r>
              <a:r>
                <a:rPr b="1" lang="ko-KR" sz="1400" spc="-1" strike="noStrike" u="sng">
                  <a:solidFill>
                    <a:srgbClr val="000000"/>
                  </a:solidFill>
                  <a:uFillTx/>
                  <a:latin typeface="맑은 고딕"/>
                  <a:ea typeface="맑은 고딕"/>
                </a:rPr>
                <a:t>표기법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0:17:00Z</dcterms:created>
  <dc:creator>JSC</dc:creator>
  <dc:description/>
  <dc:language>en-US</dc:language>
  <cp:lastModifiedBy>정성철</cp:lastModifiedBy>
  <dcterms:modified xsi:type="dcterms:W3CDTF">2010-08-25T07:00:06Z</dcterms:modified>
  <cp:revision>29</cp:revision>
  <dc:subject/>
  <dc:title>슬라이드 1</dc:title>
</cp:coreProperties>
</file>